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8B1-C0EC-4E62-9A32-AFE8DB38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048-D3FD-4985-BAAD-C2521FB8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8A3-5E8A-4B9B-AE23-018F5934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6A0-5EC3-489A-9FB7-D4E25775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5A5-965A-4682-A09D-02B63022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C19-C059-460E-B206-A5D9646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675-2792-4DB4-8DB9-DC822E2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0D9-4013-44DD-B8B7-829DE455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6AA-DE99-474D-BC18-01085BB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26A-F72C-489D-9BEA-E42A7A6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40F-38CB-40CD-B342-F89C41B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EDA-05ED-486F-AFC0-11C120B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77C-40C5-422A-92C0-59CD25E33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1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26668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ction 2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eneral Angles &amp; Radian Mea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12"/>
          <p:cNvSpPr/>
          <p:nvPr/>
        </p:nvSpPr>
        <p:spPr>
          <a:xfrm>
            <a:off x="19080" y="609480"/>
            <a:ext cx="661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 many inches in 1 fo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3"/>
          <p:cNvSpPr/>
          <p:nvPr/>
        </p:nvSpPr>
        <p:spPr>
          <a:xfrm>
            <a:off x="400320" y="137160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 many inches in 2.5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4"/>
          <p:cNvSpPr/>
          <p:nvPr/>
        </p:nvSpPr>
        <p:spPr>
          <a:xfrm>
            <a:off x="476640" y="320040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 many feet in 52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11"/>
              <p:cNvSpPr txBox="1"/>
              <p:nvPr/>
            </p:nvSpPr>
            <p:spPr>
              <a:xfrm>
                <a:off x="533520" y="2057400"/>
                <a:ext cx="1941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12"/>
              <p:cNvSpPr txBox="1"/>
              <p:nvPr/>
            </p:nvSpPr>
            <p:spPr>
              <a:xfrm>
                <a:off x="2438280" y="2286000"/>
                <a:ext cx="1859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3"/>
              <p:cNvSpPr txBox="1"/>
              <p:nvPr/>
            </p:nvSpPr>
            <p:spPr>
              <a:xfrm>
                <a:off x="4267080" y="2286000"/>
                <a:ext cx="1094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4"/>
              <p:cNvSpPr txBox="1"/>
              <p:nvPr/>
            </p:nvSpPr>
            <p:spPr>
              <a:xfrm>
                <a:off x="601560" y="3774960"/>
                <a:ext cx="1805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15"/>
              <p:cNvSpPr txBox="1"/>
              <p:nvPr/>
            </p:nvSpPr>
            <p:spPr>
              <a:xfrm>
                <a:off x="2540160" y="3774960"/>
                <a:ext cx="1585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16"/>
              <p:cNvSpPr txBox="1"/>
              <p:nvPr/>
            </p:nvSpPr>
            <p:spPr>
              <a:xfrm>
                <a:off x="4297320" y="4006800"/>
                <a:ext cx="142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Box 121"/>
          <p:cNvSpPr/>
          <p:nvPr/>
        </p:nvSpPr>
        <p:spPr>
          <a:xfrm>
            <a:off x="-3600" y="5486400"/>
            <a:ext cx="666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milarly,  we can convert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grees and radians. But first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to define a radi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23"/>
          <p:cNvSpPr/>
          <p:nvPr/>
        </p:nvSpPr>
        <p:spPr>
          <a:xfrm flipV="1">
            <a:off x="1828800" y="266652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24"/>
          <p:cNvSpPr/>
          <p:nvPr/>
        </p:nvSpPr>
        <p:spPr>
          <a:xfrm flipV="1">
            <a:off x="990720" y="2437920"/>
            <a:ext cx="53316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5"/>
          <p:cNvSpPr/>
          <p:nvPr/>
        </p:nvSpPr>
        <p:spPr>
          <a:xfrm flipV="1">
            <a:off x="1981080" y="449532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26"/>
          <p:cNvSpPr/>
          <p:nvPr/>
        </p:nvSpPr>
        <p:spPr>
          <a:xfrm flipV="1">
            <a:off x="838080" y="411444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raja\Desktop\viewer.png"/>
          <p:cNvPicPr/>
          <p:nvPr/>
        </p:nvPicPr>
        <p:blipFill>
          <a:blip r:embed="rId1"/>
          <a:stretch/>
        </p:blipFill>
        <p:spPr>
          <a:xfrm>
            <a:off x="243000" y="0"/>
            <a:ext cx="6615000" cy="496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zonalandeducation.com/mmts/trigonometryRealms/radianDemo1/radPerDeg1.gif"/>
          <p:cNvPicPr/>
          <p:nvPr/>
        </p:nvPicPr>
        <p:blipFill>
          <a:blip r:embed="rId2"/>
          <a:stretch/>
        </p:blipFill>
        <p:spPr>
          <a:xfrm>
            <a:off x="1143000" y="4267080"/>
            <a:ext cx="4957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5638680"/>
          <a:ext cx="6858000" cy="28958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304920"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VERTING BETWEEN DEGREES &amp; RAD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09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grees to Radians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egree Measure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adians to Degre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adian Measure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2362320" y="6400800"/>
                <a:ext cx="1328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2438280" y="76960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" name="Picture 110" descr="C:\Users\sraja\Desktop\degrad.gif"/>
          <p:cNvPicPr/>
          <p:nvPr/>
        </p:nvPicPr>
        <p:blipFill>
          <a:blip r:embed="rId1"/>
          <a:stretch/>
        </p:blipFill>
        <p:spPr>
          <a:xfrm>
            <a:off x="0" y="457200"/>
            <a:ext cx="638496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3678120" y="7162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 the pi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1"/>
          <p:cNvSpPr/>
          <p:nvPr/>
        </p:nvSpPr>
        <p:spPr>
          <a:xfrm>
            <a:off x="0" y="838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1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3760" y="2362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1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22680" y="4572000"/>
            <a:ext cx="33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4"/>
          <p:cNvSpPr/>
          <p:nvPr/>
        </p:nvSpPr>
        <p:spPr>
          <a:xfrm>
            <a:off x="2766600" y="12952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3962520" y="1143000"/>
                <a:ext cx="52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Box 16"/>
          <p:cNvSpPr/>
          <p:nvPr/>
        </p:nvSpPr>
        <p:spPr>
          <a:xfrm>
            <a:off x="2766600" y="304812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3900600" y="3170160"/>
                <a:ext cx="495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Box 18"/>
          <p:cNvSpPr/>
          <p:nvPr/>
        </p:nvSpPr>
        <p:spPr>
          <a:xfrm>
            <a:off x="2449800" y="525780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3537000" y="5076720"/>
                <a:ext cx="763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Box 20"/>
          <p:cNvSpPr/>
          <p:nvPr/>
        </p:nvSpPr>
        <p:spPr>
          <a:xfrm>
            <a:off x="323640" y="685800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the area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483120" y="91440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s the area of half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0920" y="2438280"/>
            <a:ext cx="66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rea of any part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"/>
              <p:cNvSpPr txBox="1"/>
              <p:nvPr/>
            </p:nvSpPr>
            <p:spPr>
              <a:xfrm>
                <a:off x="2438280" y="3124080"/>
                <a:ext cx="11908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Box 9"/>
          <p:cNvSpPr/>
          <p:nvPr/>
        </p:nvSpPr>
        <p:spPr>
          <a:xfrm>
            <a:off x="19440" y="434340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r is the radiu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ngle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16200" y="571500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the circumference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468000" y="914400"/>
            <a:ext cx="454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s the circum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f half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-39240" y="2438280"/>
            <a:ext cx="38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rc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ny part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4952880" y="2666880"/>
                <a:ext cx="64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Box 9"/>
          <p:cNvSpPr/>
          <p:nvPr/>
        </p:nvSpPr>
        <p:spPr>
          <a:xfrm>
            <a:off x="19440" y="670572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r is the radiu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ngle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685800" y="3581280"/>
            <a:ext cx="2819160" cy="2285640"/>
            <a:chOff x="685800" y="3581280"/>
            <a:chExt cx="2819160" cy="2285640"/>
          </a:xfrm>
        </p:grpSpPr>
        <p:sp>
          <p:nvSpPr>
            <p:cNvPr id="86" name="Arc 6"/>
            <p:cNvSpPr/>
            <p:nvPr/>
          </p:nvSpPr>
          <p:spPr>
            <a:xfrm>
              <a:off x="1582200" y="4514400"/>
              <a:ext cx="152280" cy="494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7"/>
            <p:cNvGrpSpPr/>
            <p:nvPr/>
          </p:nvGrpSpPr>
          <p:grpSpPr>
            <a:xfrm>
              <a:off x="685800" y="3581280"/>
              <a:ext cx="2819160" cy="2285640"/>
              <a:chOff x="685800" y="3581280"/>
              <a:chExt cx="2819160" cy="2285640"/>
            </a:xfrm>
          </p:grpSpPr>
          <p:grpSp>
            <p:nvGrpSpPr>
              <p:cNvPr id="88" name="Group 8"/>
              <p:cNvGrpSpPr/>
              <p:nvPr/>
            </p:nvGrpSpPr>
            <p:grpSpPr>
              <a:xfrm>
                <a:off x="685800" y="3792600"/>
                <a:ext cx="1644120" cy="2074320"/>
                <a:chOff x="685800" y="3792600"/>
                <a:chExt cx="1644120" cy="2074320"/>
              </a:xfrm>
            </p:grpSpPr>
            <p:grpSp>
              <p:nvGrpSpPr>
                <p:cNvPr id="89" name="Group 9"/>
                <p:cNvGrpSpPr/>
                <p:nvPr/>
              </p:nvGrpSpPr>
              <p:grpSpPr>
                <a:xfrm>
                  <a:off x="685800" y="3792600"/>
                  <a:ext cx="1576800" cy="2074320"/>
                  <a:chOff x="685800" y="3792600"/>
                  <a:chExt cx="1576800" cy="2074320"/>
                </a:xfrm>
              </p:grpSpPr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685800" y="3792600"/>
                    <a:ext cx="1576800" cy="2074320"/>
                    <a:chOff x="685800" y="3792600"/>
                    <a:chExt cx="1576800" cy="2074320"/>
                  </a:xfrm>
                </p:grpSpPr>
                <p:sp>
                  <p:nvSpPr>
                    <p:cNvPr id="91" name="Oval 11"/>
                    <p:cNvSpPr/>
                    <p:nvPr/>
                  </p:nvSpPr>
                  <p:spPr>
                    <a:xfrm>
                      <a:off x="685800" y="3792600"/>
                      <a:ext cx="1576800" cy="20743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Oval 12"/>
                    <p:cNvSpPr/>
                    <p:nvPr/>
                  </p:nvSpPr>
                  <p:spPr>
                    <a:xfrm>
                      <a:off x="1393920" y="4761000"/>
                      <a:ext cx="122400" cy="160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93" name="AutoShape 13"/>
                  <p:cNvCxnSpPr/>
                  <p:nvPr/>
                </p:nvCxnSpPr>
                <p:spPr>
                  <a:xfrm flipV="1">
                    <a:off x="1452240" y="3866040"/>
                    <a:ext cx="347760" cy="971640"/>
                  </a:xfrm>
                  <a:prstGeom prst="straightConnector1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94" name="AutoShape 14"/>
                  <p:cNvCxnSpPr/>
                  <p:nvPr/>
                </p:nvCxnSpPr>
                <p:spPr>
                  <a:xfrm>
                    <a:off x="1432800" y="4830840"/>
                    <a:ext cx="767160" cy="420840"/>
                  </a:xfrm>
                  <a:prstGeom prst="straightConnector1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95" name="Freeform 15"/>
                <p:cNvSpPr/>
                <p:nvPr/>
              </p:nvSpPr>
              <p:spPr>
                <a:xfrm rot="259200">
                  <a:off x="1500120" y="3929760"/>
                  <a:ext cx="781560" cy="1300320"/>
                </a:xfrm>
                <a:custGeom>
                  <a:avLst/>
                  <a:gdLst>
                    <a:gd name="textAreaLeft" fmla="*/ 0 w 781560"/>
                    <a:gd name="textAreaRight" fmla="*/ 781920 w 781560"/>
                    <a:gd name="textAreaTop" fmla="*/ 0 h 1300320"/>
                    <a:gd name="textAreaBottom" fmla="*/ 1300680 h 1300320"/>
                  </a:gdLst>
                  <a:ahLst/>
                  <a:rect l="textAreaLeft" t="textAreaTop" r="textAreaRight" b="textAreaBottom"/>
                  <a:pathLst>
                    <a:path w="774" h="969">
                      <a:moveTo>
                        <a:pt x="307" y="11"/>
                      </a:moveTo>
                      <a:cubicBezTo>
                        <a:pt x="388" y="22"/>
                        <a:pt x="593" y="190"/>
                        <a:pt x="661" y="337"/>
                      </a:cubicBezTo>
                      <a:cubicBezTo>
                        <a:pt x="729" y="484"/>
                        <a:pt x="774" y="819"/>
                        <a:pt x="715" y="894"/>
                      </a:cubicBezTo>
                      <a:cubicBezTo>
                        <a:pt x="656" y="969"/>
                        <a:pt x="422" y="821"/>
                        <a:pt x="307" y="785"/>
                      </a:cubicBezTo>
                      <a:cubicBezTo>
                        <a:pt x="192" y="749"/>
                        <a:pt x="44" y="762"/>
                        <a:pt x="22" y="676"/>
                      </a:cubicBezTo>
                      <a:cubicBezTo>
                        <a:pt x="0" y="590"/>
                        <a:pt x="129" y="375"/>
                        <a:pt x="172" y="269"/>
                      </a:cubicBezTo>
                      <a:cubicBezTo>
                        <a:pt x="215" y="163"/>
                        <a:pt x="226" y="0"/>
                        <a:pt x="307" y="11"/>
                      </a:cubicBezTo>
                      <a:close/>
                    </a:path>
                  </a:pathLst>
                </a:custGeom>
                <a:solidFill>
                  <a:srgbClr val="a5a5a5">
                    <a:alpha val="37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Arc 16"/>
              <p:cNvSpPr/>
              <p:nvPr/>
            </p:nvSpPr>
            <p:spPr>
              <a:xfrm flipV="1" rot="10187400">
                <a:off x="1839960" y="3932640"/>
                <a:ext cx="596880" cy="41904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360 h 419040"/>
                  <a:gd name="textAreaBottom" fmla="*/ 419760 h 419040"/>
                </a:gdLst>
                <a:ahLst/>
                <a:rect l="textAreaLeft" t="textAreaTop" r="textAreaRight" b="textAreaBottom"/>
                <a:pathLst>
                  <a:path fill="none" w="25516" h="30571">
                    <a:moveTo>
                      <a:pt x="-1" y="357"/>
                    </a:moveTo>
                    <a:cubicBezTo>
                      <a:pt x="1291" y="119"/>
                      <a:pt x="2602" y="-1"/>
                      <a:pt x="3916" y="0"/>
                    </a:cubicBezTo>
                    <a:cubicBezTo>
                      <a:pt x="15845" y="0"/>
                      <a:pt x="25516" y="9670"/>
                      <a:pt x="25516" y="21600"/>
                    </a:cubicBezTo>
                    <a:cubicBezTo>
                      <a:pt x="25516" y="24695"/>
                      <a:pt x="24850" y="27755"/>
                      <a:pt x="23564" y="30570"/>
                    </a:cubicBezTo>
                  </a:path>
                  <a:path stroke="0" w="25516" h="30571">
                    <a:moveTo>
                      <a:pt x="-1" y="357"/>
                    </a:moveTo>
                    <a:cubicBezTo>
                      <a:pt x="1291" y="119"/>
                      <a:pt x="2602" y="-1"/>
                      <a:pt x="3916" y="0"/>
                    </a:cubicBezTo>
                    <a:cubicBezTo>
                      <a:pt x="15845" y="0"/>
                      <a:pt x="25516" y="9670"/>
                      <a:pt x="25516" y="21600"/>
                    </a:cubicBezTo>
                    <a:cubicBezTo>
                      <a:pt x="25516" y="24695"/>
                      <a:pt x="24850" y="27755"/>
                      <a:pt x="23564" y="30570"/>
                    </a:cubicBezTo>
                    <a:lnTo>
                      <a:pt x="3916" y="2160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7"/>
              <p:cNvSpPr/>
              <p:nvPr/>
            </p:nvSpPr>
            <p:spPr>
              <a:xfrm>
                <a:off x="2246760" y="3581280"/>
                <a:ext cx="125820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Sec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767880" y="4851000"/>
                <a:ext cx="1258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Central Angl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9"/>
              <p:cNvSpPr/>
              <p:nvPr/>
            </p:nvSpPr>
            <p:spPr>
              <a:xfrm>
                <a:off x="1359720" y="3823200"/>
                <a:ext cx="389520" cy="62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0"/>
              <p:cNvGrpSpPr/>
              <p:nvPr/>
            </p:nvGrpSpPr>
            <p:grpSpPr>
              <a:xfrm>
                <a:off x="1843200" y="3612600"/>
                <a:ext cx="634320" cy="1771920"/>
                <a:chOff x="1843200" y="3612600"/>
                <a:chExt cx="634320" cy="1771920"/>
              </a:xfrm>
            </p:grpSpPr>
            <p:sp>
              <p:nvSpPr>
                <p:cNvPr id="101" name="Freeform 21"/>
                <p:cNvSpPr/>
                <p:nvPr/>
              </p:nvSpPr>
              <p:spPr>
                <a:xfrm>
                  <a:off x="1930320" y="3727800"/>
                  <a:ext cx="547200" cy="159732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1597320"/>
                    <a:gd name="textAreaBottom" fmla="*/ 1597680 h 1597320"/>
                  </a:gdLst>
                  <a:ahLst/>
                  <a:rect l="textAreaLeft" t="textAreaTop" r="textAreaRight" b="textAreaBottom"/>
                  <a:pathLst>
                    <a:path w="420" h="1059">
                      <a:moveTo>
                        <a:pt x="0" y="0"/>
                      </a:moveTo>
                      <a:cubicBezTo>
                        <a:pt x="156" y="122"/>
                        <a:pt x="312" y="244"/>
                        <a:pt x="366" y="421"/>
                      </a:cubicBezTo>
                      <a:cubicBezTo>
                        <a:pt x="420" y="598"/>
                        <a:pt x="373" y="828"/>
                        <a:pt x="326" y="10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2" name="AutoShape 22"/>
                <p:cNvCxnSpPr/>
                <p:nvPr/>
              </p:nvCxnSpPr>
              <p:spPr>
                <a:xfrm flipV="1">
                  <a:off x="1843200" y="3612600"/>
                  <a:ext cx="101520" cy="193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3" name="AutoShape 23"/>
                <p:cNvCxnSpPr/>
                <p:nvPr/>
              </p:nvCxnSpPr>
              <p:spPr>
                <a:xfrm>
                  <a:off x="2248560" y="5327640"/>
                  <a:ext cx="187920" cy="57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04" name="Text Box 24"/>
              <p:cNvSpPr/>
              <p:nvPr/>
            </p:nvSpPr>
            <p:spPr>
              <a:xfrm>
                <a:off x="2371320" y="4298400"/>
                <a:ext cx="1085040" cy="8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Arc length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Ink 27"/>
          <p:cNvSpPr/>
          <p:nvPr/>
        </p:nvSpPr>
        <p:spPr>
          <a:xfrm>
            <a:off x="488880" y="7929720"/>
            <a:ext cx="1238400" cy="785520"/>
          </a:xfrm>
          <a:custGeom>
            <a:avLst/>
            <a:gdLst/>
            <a:ahLst/>
            <a:rect l="l" t="t" r="r" b="b"/>
            <a:pathLst>
              <a:path w="3441" h="2183">
                <a:moveTo>
                  <a:pt x="1687" y="22688"/>
                </a:moveTo>
                <a:cubicBezTo>
                  <a:pt x="1674" y="22712"/>
                  <a:pt x="1610" y="22794"/>
                  <a:pt x="1588" y="22853"/>
                </a:cubicBezTo>
                <a:cubicBezTo>
                  <a:pt x="1540" y="22980"/>
                  <a:pt x="1537" y="23148"/>
                  <a:pt x="1521" y="23283"/>
                </a:cubicBezTo>
                <a:cubicBezTo>
                  <a:pt x="1502" y="23441"/>
                  <a:pt x="1443" y="23589"/>
                  <a:pt x="1422" y="23746"/>
                </a:cubicBezTo>
                <a:cubicBezTo>
                  <a:pt x="1404" y="23880"/>
                  <a:pt x="1389" y="24006"/>
                  <a:pt x="1389" y="24143"/>
                </a:cubicBezTo>
                <a:cubicBezTo>
                  <a:pt x="1389" y="24176"/>
                  <a:pt x="1389" y="24187"/>
                  <a:pt x="1389" y="24209"/>
                </a:cubicBezTo>
                <a:cubicBezTo>
                  <a:pt x="1389" y="23962"/>
                  <a:pt x="1382" y="23726"/>
                  <a:pt x="1356" y="23482"/>
                </a:cubicBezTo>
                <a:cubicBezTo>
                  <a:pt x="1332" y="23254"/>
                  <a:pt x="1298" y="22860"/>
                  <a:pt x="1389" y="22655"/>
                </a:cubicBezTo>
                <a:cubicBezTo>
                  <a:pt x="1416" y="22593"/>
                  <a:pt x="1441" y="22501"/>
                  <a:pt x="1488" y="22457"/>
                </a:cubicBezTo>
                <a:cubicBezTo>
                  <a:pt x="1561" y="22389"/>
                  <a:pt x="1769" y="22413"/>
                  <a:pt x="1852" y="22423"/>
                </a:cubicBezTo>
                <a:cubicBezTo>
                  <a:pt x="2161" y="22462"/>
                  <a:pt x="2509" y="22509"/>
                  <a:pt x="2811" y="22589"/>
                </a:cubicBezTo>
                <a:cubicBezTo>
                  <a:pt x="2849" y="22589"/>
                  <a:pt x="2863" y="22592"/>
                  <a:pt x="2877" y="22622"/>
                </a:cubicBezTo>
                <a:cubicBezTo>
                  <a:pt x="2869" y="22683"/>
                  <a:pt x="2892" y="22706"/>
                  <a:pt x="2844" y="22754"/>
                </a:cubicBezTo>
                <a:cubicBezTo>
                  <a:pt x="2816" y="22782"/>
                  <a:pt x="2782" y="22838"/>
                  <a:pt x="2745" y="22853"/>
                </a:cubicBezTo>
                <a:cubicBezTo>
                  <a:pt x="2655" y="22889"/>
                  <a:pt x="2543" y="22904"/>
                  <a:pt x="2447" y="22920"/>
                </a:cubicBezTo>
                <a:cubicBezTo>
                  <a:pt x="2258" y="22952"/>
                  <a:pt x="2098" y="23042"/>
                  <a:pt x="1918" y="23085"/>
                </a:cubicBezTo>
                <a:cubicBezTo>
                  <a:pt x="1856" y="23100"/>
                  <a:pt x="1850" y="23099"/>
                  <a:pt x="1819" y="23118"/>
                </a:cubicBezTo>
              </a:path>
              <a:path w="3441" h="2183">
                <a:moveTo>
                  <a:pt x="3010" y="22390"/>
                </a:moveTo>
                <a:cubicBezTo>
                  <a:pt x="3076" y="22390"/>
                  <a:pt x="3142" y="22390"/>
                  <a:pt x="3208" y="22390"/>
                </a:cubicBezTo>
                <a:cubicBezTo>
                  <a:pt x="3225" y="22440"/>
                  <a:pt x="3241" y="22419"/>
                  <a:pt x="3241" y="22490"/>
                </a:cubicBezTo>
                <a:cubicBezTo>
                  <a:pt x="3241" y="22831"/>
                  <a:pt x="3170" y="23270"/>
                  <a:pt x="3274" y="23581"/>
                </a:cubicBezTo>
                <a:cubicBezTo>
                  <a:pt x="3274" y="23614"/>
                  <a:pt x="3274" y="23625"/>
                  <a:pt x="3274" y="23581"/>
                </a:cubicBezTo>
              </a:path>
              <a:path w="3441" h="2183">
                <a:moveTo>
                  <a:pt x="3109" y="23316"/>
                </a:moveTo>
                <a:cubicBezTo>
                  <a:pt x="3094" y="23256"/>
                  <a:pt x="3070" y="23232"/>
                  <a:pt x="3010" y="23217"/>
                </a:cubicBezTo>
                <a:cubicBezTo>
                  <a:pt x="3186" y="23217"/>
                  <a:pt x="3363" y="23217"/>
                  <a:pt x="3539" y="23217"/>
                </a:cubicBezTo>
              </a:path>
              <a:path w="3441" h="2183">
                <a:moveTo>
                  <a:pt x="4002" y="22291"/>
                </a:moveTo>
                <a:cubicBezTo>
                  <a:pt x="3948" y="22291"/>
                  <a:pt x="3832" y="22266"/>
                  <a:pt x="3803" y="22324"/>
                </a:cubicBezTo>
                <a:cubicBezTo>
                  <a:pt x="3784" y="22361"/>
                  <a:pt x="3755" y="22416"/>
                  <a:pt x="3737" y="22457"/>
                </a:cubicBezTo>
                <a:cubicBezTo>
                  <a:pt x="3703" y="22533"/>
                  <a:pt x="3750" y="22629"/>
                  <a:pt x="3770" y="22688"/>
                </a:cubicBezTo>
                <a:cubicBezTo>
                  <a:pt x="3791" y="22752"/>
                  <a:pt x="3799" y="22754"/>
                  <a:pt x="3870" y="22754"/>
                </a:cubicBezTo>
                <a:cubicBezTo>
                  <a:pt x="3940" y="22754"/>
                  <a:pt x="3963" y="22781"/>
                  <a:pt x="4035" y="22787"/>
                </a:cubicBezTo>
                <a:cubicBezTo>
                  <a:pt x="4089" y="22792"/>
                  <a:pt x="4071" y="22838"/>
                  <a:pt x="4101" y="22853"/>
                </a:cubicBezTo>
                <a:cubicBezTo>
                  <a:pt x="4137" y="22871"/>
                  <a:pt x="4161" y="22895"/>
                  <a:pt x="4167" y="22953"/>
                </a:cubicBezTo>
                <a:cubicBezTo>
                  <a:pt x="4179" y="23060"/>
                  <a:pt x="4180" y="23197"/>
                  <a:pt x="4134" y="23283"/>
                </a:cubicBezTo>
                <a:cubicBezTo>
                  <a:pt x="4088" y="23370"/>
                  <a:pt x="4069" y="23338"/>
                  <a:pt x="4002" y="23383"/>
                </a:cubicBezTo>
                <a:cubicBezTo>
                  <a:pt x="3949" y="23418"/>
                  <a:pt x="3936" y="23416"/>
                  <a:pt x="3870" y="23416"/>
                </a:cubicBezTo>
                <a:cubicBezTo>
                  <a:pt x="3809" y="23416"/>
                  <a:pt x="3783" y="23425"/>
                  <a:pt x="3737" y="23383"/>
                </a:cubicBezTo>
                <a:cubicBezTo>
                  <a:pt x="3701" y="23350"/>
                  <a:pt x="3684" y="23330"/>
                  <a:pt x="3671" y="23283"/>
                </a:cubicBezTo>
                <a:cubicBezTo>
                  <a:pt x="3649" y="23202"/>
                  <a:pt x="3687" y="23124"/>
                  <a:pt x="3704" y="23052"/>
                </a:cubicBezTo>
                <a:cubicBezTo>
                  <a:pt x="3720" y="22981"/>
                  <a:pt x="3754" y="22986"/>
                  <a:pt x="3803" y="22953"/>
                </a:cubicBezTo>
                <a:cubicBezTo>
                  <a:pt x="3846" y="22924"/>
                  <a:pt x="3892" y="22830"/>
                  <a:pt x="3936" y="22787"/>
                </a:cubicBezTo>
                <a:cubicBezTo>
                  <a:pt x="3991" y="22732"/>
                  <a:pt x="4017" y="22669"/>
                  <a:pt x="4068" y="22622"/>
                </a:cubicBezTo>
                <a:cubicBezTo>
                  <a:pt x="4140" y="22556"/>
                  <a:pt x="4172" y="22516"/>
                  <a:pt x="4200" y="22423"/>
                </a:cubicBezTo>
                <a:cubicBezTo>
                  <a:pt x="4214" y="22375"/>
                  <a:pt x="4233" y="22370"/>
                  <a:pt x="4233" y="22291"/>
                </a:cubicBezTo>
                <a:cubicBezTo>
                  <a:pt x="4233" y="22257"/>
                  <a:pt x="4159" y="22148"/>
                  <a:pt x="4134" y="22126"/>
                </a:cubicBezTo>
                <a:cubicBezTo>
                  <a:pt x="4075" y="22073"/>
                  <a:pt x="4019" y="21999"/>
                  <a:pt x="3936" y="22027"/>
                </a:cubicBezTo>
                <a:cubicBezTo>
                  <a:pt x="3876" y="22047"/>
                  <a:pt x="3807" y="22136"/>
                  <a:pt x="3770" y="22192"/>
                </a:cubicBezTo>
                <a:cubicBezTo>
                  <a:pt x="3715" y="22274"/>
                  <a:pt x="3744" y="22278"/>
                  <a:pt x="3704" y="22357"/>
                </a:cubicBezTo>
                <a:cubicBezTo>
                  <a:pt x="3678" y="22409"/>
                  <a:pt x="3671" y="22395"/>
                  <a:pt x="3671" y="22457"/>
                </a:cubicBezTo>
              </a:path>
              <a:path w="3441" h="2183">
                <a:moveTo>
                  <a:pt x="4796" y="22258"/>
                </a:moveTo>
                <a:cubicBezTo>
                  <a:pt x="4796" y="22365"/>
                  <a:pt x="4789" y="22448"/>
                  <a:pt x="4763" y="22556"/>
                </a:cubicBezTo>
                <a:cubicBezTo>
                  <a:pt x="4717" y="22747"/>
                  <a:pt x="4690" y="22925"/>
                  <a:pt x="4663" y="23118"/>
                </a:cubicBezTo>
                <a:cubicBezTo>
                  <a:pt x="4640" y="23281"/>
                  <a:pt x="4597" y="23417"/>
                  <a:pt x="4597" y="23581"/>
                </a:cubicBezTo>
                <a:cubicBezTo>
                  <a:pt x="4597" y="23625"/>
                  <a:pt x="4597" y="23691"/>
                  <a:pt x="4597" y="23647"/>
                </a:cubicBezTo>
              </a:path>
            </a:pathLst>
          </a:custGeom>
          <a:noFill/>
          <a:ln cap="rnd"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28"/>
          <p:cNvSpPr/>
          <p:nvPr/>
        </p:nvSpPr>
        <p:spPr>
          <a:xfrm>
            <a:off x="1981080" y="7924680"/>
            <a:ext cx="1656000" cy="417600"/>
          </a:xfrm>
          <a:custGeom>
            <a:avLst/>
            <a:gdLst/>
            <a:ahLst/>
            <a:rect l="l" t="t" r="r" b="b"/>
            <a:pathLst>
              <a:path w="4598" h="1159">
                <a:moveTo>
                  <a:pt x="5622" y="22159"/>
                </a:moveTo>
                <a:cubicBezTo>
                  <a:pt x="5622" y="22242"/>
                  <a:pt x="5594" y="22279"/>
                  <a:pt x="5589" y="22357"/>
                </a:cubicBezTo>
                <a:cubicBezTo>
                  <a:pt x="5585" y="22432"/>
                  <a:pt x="5563" y="22485"/>
                  <a:pt x="5556" y="22556"/>
                </a:cubicBezTo>
                <a:cubicBezTo>
                  <a:pt x="5556" y="22589"/>
                  <a:pt x="5556" y="22600"/>
                  <a:pt x="5556" y="22622"/>
                </a:cubicBezTo>
                <a:cubicBezTo>
                  <a:pt x="5666" y="22622"/>
                  <a:pt x="5777" y="22622"/>
                  <a:pt x="5887" y="22622"/>
                </a:cubicBezTo>
              </a:path>
              <a:path w="4598" h="1159">
                <a:moveTo>
                  <a:pt x="5854" y="22423"/>
                </a:moveTo>
                <a:cubicBezTo>
                  <a:pt x="5854" y="22595"/>
                  <a:pt x="5845" y="22753"/>
                  <a:pt x="5821" y="22920"/>
                </a:cubicBezTo>
                <a:cubicBezTo>
                  <a:pt x="5810" y="22997"/>
                  <a:pt x="5847" y="22999"/>
                  <a:pt x="5788" y="23019"/>
                </a:cubicBezTo>
              </a:path>
              <a:path w="4598" h="1159">
                <a:moveTo>
                  <a:pt x="6515" y="22423"/>
                </a:moveTo>
                <a:cubicBezTo>
                  <a:pt x="6497" y="22370"/>
                  <a:pt x="6450" y="22390"/>
                  <a:pt x="6383" y="22390"/>
                </a:cubicBezTo>
                <a:cubicBezTo>
                  <a:pt x="6297" y="22390"/>
                  <a:pt x="6235" y="22417"/>
                  <a:pt x="6152" y="22423"/>
                </a:cubicBezTo>
                <a:cubicBezTo>
                  <a:pt x="6141" y="22423"/>
                  <a:pt x="6129" y="22423"/>
                  <a:pt x="6118" y="22423"/>
                </a:cubicBezTo>
                <a:cubicBezTo>
                  <a:pt x="6118" y="22522"/>
                  <a:pt x="6118" y="22622"/>
                  <a:pt x="6118" y="22721"/>
                </a:cubicBezTo>
                <a:cubicBezTo>
                  <a:pt x="6185" y="22721"/>
                  <a:pt x="6254" y="22738"/>
                  <a:pt x="6317" y="22754"/>
                </a:cubicBezTo>
                <a:cubicBezTo>
                  <a:pt x="6458" y="22791"/>
                  <a:pt x="6607" y="22858"/>
                  <a:pt x="6747" y="22886"/>
                </a:cubicBezTo>
                <a:cubicBezTo>
                  <a:pt x="6769" y="22886"/>
                  <a:pt x="6791" y="22886"/>
                  <a:pt x="6813" y="22886"/>
                </a:cubicBezTo>
                <a:cubicBezTo>
                  <a:pt x="6813" y="22971"/>
                  <a:pt x="6776" y="22943"/>
                  <a:pt x="6747" y="22986"/>
                </a:cubicBezTo>
                <a:cubicBezTo>
                  <a:pt x="6726" y="23017"/>
                  <a:pt x="6708" y="23048"/>
                  <a:pt x="6648" y="23052"/>
                </a:cubicBezTo>
                <a:cubicBezTo>
                  <a:pt x="6546" y="23059"/>
                  <a:pt x="6465" y="23085"/>
                  <a:pt x="6350" y="23085"/>
                </a:cubicBezTo>
                <a:cubicBezTo>
                  <a:pt x="6239" y="23085"/>
                  <a:pt x="6075" y="23052"/>
                  <a:pt x="5986" y="23118"/>
                </a:cubicBezTo>
              </a:path>
              <a:path w="4598" h="1159">
                <a:moveTo>
                  <a:pt x="6912" y="22721"/>
                </a:moveTo>
                <a:cubicBezTo>
                  <a:pt x="7032" y="22721"/>
                  <a:pt x="7139" y="22733"/>
                  <a:pt x="7243" y="22754"/>
                </a:cubicBezTo>
                <a:cubicBezTo>
                  <a:pt x="7333" y="22772"/>
                  <a:pt x="7318" y="22749"/>
                  <a:pt x="7408" y="22787"/>
                </a:cubicBezTo>
              </a:path>
              <a:path w="4598" h="1159">
                <a:moveTo>
                  <a:pt x="7805" y="21993"/>
                </a:moveTo>
                <a:cubicBezTo>
                  <a:pt x="7805" y="22084"/>
                  <a:pt x="7846" y="22293"/>
                  <a:pt x="7772" y="22357"/>
                </a:cubicBezTo>
                <a:cubicBezTo>
                  <a:pt x="7748" y="22378"/>
                  <a:pt x="7759" y="22441"/>
                  <a:pt x="7739" y="22457"/>
                </a:cubicBezTo>
                <a:cubicBezTo>
                  <a:pt x="7702" y="22488"/>
                  <a:pt x="7706" y="22486"/>
                  <a:pt x="7706" y="22556"/>
                </a:cubicBezTo>
                <a:cubicBezTo>
                  <a:pt x="7706" y="22631"/>
                  <a:pt x="7664" y="22949"/>
                  <a:pt x="7739" y="22986"/>
                </a:cubicBezTo>
                <a:cubicBezTo>
                  <a:pt x="7782" y="23007"/>
                  <a:pt x="7772" y="23019"/>
                  <a:pt x="7838" y="23019"/>
                </a:cubicBezTo>
                <a:cubicBezTo>
                  <a:pt x="7922" y="23019"/>
                  <a:pt x="7896" y="22981"/>
                  <a:pt x="7938" y="22953"/>
                </a:cubicBezTo>
                <a:cubicBezTo>
                  <a:pt x="7971" y="22931"/>
                  <a:pt x="7998" y="22936"/>
                  <a:pt x="8004" y="22886"/>
                </a:cubicBezTo>
                <a:cubicBezTo>
                  <a:pt x="8011" y="22832"/>
                  <a:pt x="8037" y="22815"/>
                  <a:pt x="8037" y="22754"/>
                </a:cubicBezTo>
                <a:cubicBezTo>
                  <a:pt x="8037" y="22710"/>
                  <a:pt x="8037" y="22666"/>
                  <a:pt x="8037" y="22622"/>
                </a:cubicBezTo>
                <a:cubicBezTo>
                  <a:pt x="7956" y="22622"/>
                  <a:pt x="7873" y="22645"/>
                  <a:pt x="7838" y="22655"/>
                </a:cubicBezTo>
                <a:cubicBezTo>
                  <a:pt x="7783" y="22670"/>
                  <a:pt x="7727" y="22647"/>
                  <a:pt x="7706" y="22688"/>
                </a:cubicBezTo>
                <a:cubicBezTo>
                  <a:pt x="7691" y="22718"/>
                  <a:pt x="7681" y="22753"/>
                  <a:pt x="7673" y="22787"/>
                </a:cubicBezTo>
              </a:path>
              <a:path w="4598" h="1159">
                <a:moveTo>
                  <a:pt x="8467" y="21960"/>
                </a:moveTo>
                <a:cubicBezTo>
                  <a:pt x="8452" y="22004"/>
                  <a:pt x="8414" y="22001"/>
                  <a:pt x="8401" y="22027"/>
                </a:cubicBezTo>
                <a:cubicBezTo>
                  <a:pt x="8384" y="22061"/>
                  <a:pt x="8370" y="22100"/>
                  <a:pt x="8367" y="22126"/>
                </a:cubicBezTo>
                <a:cubicBezTo>
                  <a:pt x="8358" y="22194"/>
                  <a:pt x="8340" y="22175"/>
                  <a:pt x="8334" y="22225"/>
                </a:cubicBezTo>
                <a:cubicBezTo>
                  <a:pt x="8327" y="22280"/>
                  <a:pt x="8307" y="22307"/>
                  <a:pt x="8301" y="22357"/>
                </a:cubicBezTo>
                <a:cubicBezTo>
                  <a:pt x="8293" y="22427"/>
                  <a:pt x="8274" y="22405"/>
                  <a:pt x="8268" y="22457"/>
                </a:cubicBezTo>
                <a:cubicBezTo>
                  <a:pt x="8252" y="22589"/>
                  <a:pt x="8264" y="22741"/>
                  <a:pt x="8301" y="22853"/>
                </a:cubicBezTo>
                <a:cubicBezTo>
                  <a:pt x="8301" y="22886"/>
                  <a:pt x="8301" y="22898"/>
                  <a:pt x="8301" y="22920"/>
                </a:cubicBezTo>
                <a:cubicBezTo>
                  <a:pt x="8356" y="22920"/>
                  <a:pt x="8412" y="22920"/>
                  <a:pt x="8467" y="22920"/>
                </a:cubicBezTo>
                <a:cubicBezTo>
                  <a:pt x="8467" y="22845"/>
                  <a:pt x="8480" y="22815"/>
                  <a:pt x="8500" y="22754"/>
                </a:cubicBezTo>
                <a:cubicBezTo>
                  <a:pt x="8523" y="22686"/>
                  <a:pt x="8478" y="22644"/>
                  <a:pt x="8467" y="22622"/>
                </a:cubicBezTo>
                <a:cubicBezTo>
                  <a:pt x="8434" y="22556"/>
                  <a:pt x="8428" y="22623"/>
                  <a:pt x="8367" y="22589"/>
                </a:cubicBezTo>
                <a:cubicBezTo>
                  <a:pt x="8316" y="22561"/>
                  <a:pt x="8321" y="22528"/>
                  <a:pt x="8301" y="22589"/>
                </a:cubicBezTo>
              </a:path>
              <a:path w="4598" h="1159">
                <a:moveTo>
                  <a:pt x="8996" y="22060"/>
                </a:moveTo>
                <a:cubicBezTo>
                  <a:pt x="8996" y="22165"/>
                  <a:pt x="9024" y="22193"/>
                  <a:pt x="9095" y="22258"/>
                </a:cubicBezTo>
                <a:cubicBezTo>
                  <a:pt x="9182" y="22338"/>
                  <a:pt x="9189" y="22405"/>
                  <a:pt x="9260" y="22490"/>
                </a:cubicBezTo>
                <a:cubicBezTo>
                  <a:pt x="9305" y="22543"/>
                  <a:pt x="9398" y="22608"/>
                  <a:pt x="9426" y="22655"/>
                </a:cubicBezTo>
                <a:cubicBezTo>
                  <a:pt x="9482" y="22749"/>
                  <a:pt x="9525" y="22824"/>
                  <a:pt x="9591" y="22920"/>
                </a:cubicBezTo>
                <a:cubicBezTo>
                  <a:pt x="9650" y="23005"/>
                  <a:pt x="9673" y="22953"/>
                  <a:pt x="9690" y="23052"/>
                </a:cubicBezTo>
                <a:cubicBezTo>
                  <a:pt x="9679" y="22965"/>
                  <a:pt x="9658" y="22901"/>
                  <a:pt x="9624" y="22820"/>
                </a:cubicBezTo>
              </a:path>
              <a:path w="4598" h="1159">
                <a:moveTo>
                  <a:pt x="9459" y="22093"/>
                </a:moveTo>
                <a:cubicBezTo>
                  <a:pt x="9422" y="22105"/>
                  <a:pt x="9407" y="22169"/>
                  <a:pt x="9393" y="22225"/>
                </a:cubicBezTo>
                <a:cubicBezTo>
                  <a:pt x="9363" y="22345"/>
                  <a:pt x="9303" y="22439"/>
                  <a:pt x="9260" y="22556"/>
                </a:cubicBezTo>
                <a:cubicBezTo>
                  <a:pt x="9215" y="22676"/>
                  <a:pt x="9125" y="22764"/>
                  <a:pt x="9095" y="22886"/>
                </a:cubicBezTo>
                <a:cubicBezTo>
                  <a:pt x="9080" y="22948"/>
                  <a:pt x="9080" y="22997"/>
                  <a:pt x="9062" y="23052"/>
                </a:cubicBezTo>
                <a:cubicBezTo>
                  <a:pt x="9040" y="23119"/>
                  <a:pt x="9062" y="23047"/>
                  <a:pt x="9062" y="23019"/>
                </a:cubicBezTo>
              </a:path>
              <a:path w="4598" h="1159">
                <a:moveTo>
                  <a:pt x="9723" y="22159"/>
                </a:moveTo>
                <a:cubicBezTo>
                  <a:pt x="9737" y="22105"/>
                  <a:pt x="9762" y="22067"/>
                  <a:pt x="9823" y="22060"/>
                </a:cubicBezTo>
                <a:cubicBezTo>
                  <a:pt x="9876" y="22054"/>
                  <a:pt x="9931" y="22072"/>
                  <a:pt x="9955" y="22126"/>
                </a:cubicBezTo>
                <a:cubicBezTo>
                  <a:pt x="9981" y="22184"/>
                  <a:pt x="9967" y="22392"/>
                  <a:pt x="9922" y="22423"/>
                </a:cubicBezTo>
                <a:cubicBezTo>
                  <a:pt x="9881" y="22452"/>
                  <a:pt x="9818" y="22520"/>
                  <a:pt x="9790" y="22523"/>
                </a:cubicBezTo>
                <a:cubicBezTo>
                  <a:pt x="9757" y="22523"/>
                  <a:pt x="9746" y="22523"/>
                  <a:pt x="9757" y="22556"/>
                </a:cubicBezTo>
                <a:cubicBezTo>
                  <a:pt x="9807" y="22539"/>
                  <a:pt x="9785" y="22523"/>
                  <a:pt x="9856" y="22523"/>
                </a:cubicBezTo>
                <a:cubicBezTo>
                  <a:pt x="9904" y="22523"/>
                  <a:pt x="9953" y="22532"/>
                  <a:pt x="9988" y="22556"/>
                </a:cubicBezTo>
                <a:cubicBezTo>
                  <a:pt x="10033" y="22586"/>
                  <a:pt x="10033" y="22627"/>
                  <a:pt x="10054" y="22655"/>
                </a:cubicBezTo>
                <a:cubicBezTo>
                  <a:pt x="10107" y="22725"/>
                  <a:pt x="10091" y="22673"/>
                  <a:pt x="10120" y="22754"/>
                </a:cubicBezTo>
                <a:cubicBezTo>
                  <a:pt x="10125" y="22769"/>
                  <a:pt x="10186" y="22893"/>
                  <a:pt x="10153" y="22920"/>
                </a:cubicBezTo>
                <a:cubicBezTo>
                  <a:pt x="10112" y="22953"/>
                  <a:pt x="10048" y="22986"/>
                  <a:pt x="9988" y="22986"/>
                </a:cubicBezTo>
                <a:cubicBezTo>
                  <a:pt x="9929" y="22986"/>
                  <a:pt x="9908" y="23006"/>
                  <a:pt x="9856" y="23019"/>
                </a:cubicBezTo>
              </a:path>
            </a:pathLst>
          </a:custGeom>
          <a:noFill/>
          <a:ln cap="rnd"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3:42:33Z</dcterms:created>
  <dc:creator>sraja</dc:creator>
  <dc:description/>
  <dc:language>en-US</dc:language>
  <cp:lastModifiedBy>sraja</cp:lastModifiedBy>
  <dcterms:modified xsi:type="dcterms:W3CDTF">2011-03-02T13:57:51Z</dcterms:modified>
  <cp:revision>17</cp:revision>
  <dc:subject/>
  <dc:title>Chapter 13</dc:title>
</cp:coreProperties>
</file>